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337-2B4D-4DC6-96EE-707F083E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ED1-BAA1-416A-AE61-3E057C4872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573-C63C-46A0-8381-7F693E1849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3959-C1FD-45CC-83BE-9BA93B15F6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FCB4-E248-4FAE-98D3-F9009F769D9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DBBA-3E3B-4CC6-B893-4042CB88AD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2C5-7A26-44D0-B727-66F65A20685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FF3-8B0D-43C5-9B3B-920C13153B9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9C0F-259A-4992-846D-4D7DC73033A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9255-2B49-4BD6-8204-22605B00D9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0E70-B56D-4739-9E76-72273ED0CA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7BA-F3D1-472B-95CD-0482DCE827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0F5A-7DC1-4FF2-BFAB-3FCFFEE280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9D6-8B05-4501-8C40-638AFDCB5B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799F-036D-4CAD-B987-6123B0FEE4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596-1112-4A96-B79A-8F1900C2CA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9C1-C8A5-4AEF-B210-81BCD7A696F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9C7-5124-4174-8F18-B0AB5868AD8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2BE-6728-4044-94DF-02C26C5DC8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251-0979-42BD-B1A3-062158C8F7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ACF-B53B-488C-A4E3-2693529A33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ACCD-149C-4EA7-B667-53725FF146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22F-CADF-4555-8265-5EFC43B0D2F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C8F-91BE-4400-8608-31EE75E8832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853-B9EA-497E-9643-39B1F8C2D8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060-86EA-47C2-88FA-14B6EC6B2EA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37C-A8E0-4CFA-8B80-BF66E17B31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9BE-A5E7-4D58-9A5E-13CE79EE90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D8F-4048-4942-BC1C-E40987E00E3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1070-EB85-4290-B897-EB28C67D843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E4B-FB60-4A21-9B49-8827E8C6950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16D-12A1-45B1-A496-4A578840F05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5019-258E-4037-A4A1-D12840CE14D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15D-804E-4E09-B32F-A867D0448F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C0B2-A388-4087-A604-745DCB195A5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9D0-65BD-45FC-A66E-FAC3C27F384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484-4F4E-42C0-A543-F43F97B4C3B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9069-DFF9-416A-B87C-60211A2BA29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F5E-1F7D-4943-A075-053497A2CCA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C42-EDD4-42A4-AAFD-CEC35EDB342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3E2-7ED6-4CDC-897A-1034C8291F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555-5552-45AA-B54C-6571ABABCAB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BF6-3297-4E06-957F-8D35C21A627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2C0-A047-4B35-9C18-C38922B087A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696-7F4B-4B5C-A0EA-03AE213BD9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C84E-85C2-4B93-8738-67FCD8F3D8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0C0-A3EE-4D26-886E-00F6F5DBFF3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0FA-452B-4B9B-ACB2-0C340A64BD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E87-15FE-495A-A871-7B8A069BC3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6F7-29C6-48DB-A5AD-13927C8795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758-AAA1-4740-BCF0-854D37AE9C0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893-E2B5-4469-A95A-BD062710F5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8282-86E7-4B9D-ACAD-76F7FA2A29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E16-BE80-4115-8550-ADA0D2F83B4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7C3-2314-4DE3-8E90-C44277AD385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36CE-C859-4C51-A048-FD1529A3A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A30B-043B-4148-A331-ED75734AD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5DBC-BE97-46CB-852E-E1C801718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C275-8A45-4129-AA35-C727C18A7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6B5C-E706-4E70-ADC0-F8BBF5928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82E1-D7DA-431E-80EF-793AC6A5B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BD2-AED4-43E6-958C-226E6A46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7E58-434C-4630-AD8E-B3681E150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0493-CA18-4CF0-85C1-0F3952D4D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EDD5-866A-4972-B4D6-0A20224F0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CE42-4F2F-4DEB-BC1C-21ABF95F9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901F-BEE5-4C26-BDA9-59B0D876E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B873-1E4B-45F7-A59F-806E7D5ABFE1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5005440" y="75096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328920" y="7318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3A3-60FC-411B-86C7-B09D7DFC3AB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9E9-C94D-4FCC-8767-5F91F94856C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1E82-D322-4FEE-80BA-5651659D7EC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2BDD-80A3-4B8F-8103-5BF9D9FE8B4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2CF-2D9A-450C-BF51-8D2CBBF668E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96E-8C91-47FA-AD75-3D9DE6F535C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A712-71AA-48CE-9314-F34F1DC5CA3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F68-494C-4B20-9AD9-A95733CD804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B706-0799-44E0-82D0-CD79ABD592C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00F3-3881-4DF0-A2BF-8F50CC9EC4D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589-3AD3-40EC-8BC3-933D96E030F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007-5086-4DF3-AD82-A739BF13418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C895-5379-41BF-8DBB-B141F2ABA8E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311-D919-4C56-AC79-6777FCCCE53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8A1-77C9-4C9B-A417-0FB82BFE2C3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24E6-A5AA-48DD-B5AE-F46499D632F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159-1C7F-408A-BFA1-6A92F857EBF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208-E61E-444D-9836-A54DBC0E9A8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B5F-EC93-437E-8C8F-A51BBF60C76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7D9-7AC3-40D8-A117-928815E13DD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468A-5F56-4FB6-B3BF-AA1345716DA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44A3-07A6-44C1-ACAE-EF5F53B0456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1400-FD8B-406A-99A8-2AB6DEBFBAB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DACB-2D80-4072-8420-D6F3A0CFA88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B080-F14D-4747-BA18-0A5691B67B9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1E8-6CE7-45EC-9B1B-AE88FD4B9FB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D4A1-BE47-4E82-9661-C9BABE311EE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89F-1B95-49D1-A5BF-3CA445F1D9C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40B-A82E-4545-9CC1-8B2340987D6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DCB2-7FA7-4E09-956D-10236B17E48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531-4533-4E92-B16E-4EE0F6C3C5E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893-0335-47D2-B568-A985C2BA026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312-FDD6-4462-9D70-1D9B3B7C864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470-5966-46EA-8C5E-5B00F2FE7BC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6BE-BC7B-4597-A45C-9CCF7D68682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1E5A-B792-4F85-A853-0AEE29C68E3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5957-0BE0-4F55-9AA0-45BFEA23296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8E1-820E-4502-B89E-51D7F65D4E5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6ED4-C34E-4215-83DB-D2E6B0C5DF0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133-87FF-4DEC-9D4C-F91E9108067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1AFC-2431-4FBA-84FA-F2381F4B9BF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CF03-1223-4D80-B07A-135EAA14937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481E-BC66-44C8-9422-8AB0DE4B8A7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AEC-E83D-4FA9-A55D-F32595A6D7C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B69-264D-47D1-9F01-4944DFE7110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FEBC-011D-4B9B-862D-C29F10BCF10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B88A-FB47-459E-BCF5-1800277A08D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356-39C7-4F04-A15A-7207FD4D74E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7C2-E716-498C-A8B5-748FC078D5B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754-E264-4F75-BE32-8B8625B5195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C7D-54D9-4FCB-9EE7-8F0FE5DE2BC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0A2-9AED-4859-B4F0-AD7C05F016A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75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360-9BAF-4A76-B68F-8F2E65386B3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Cengiz Hakan AYDIN</cp:lastModifiedBy>
  <dcterms:modified xsi:type="dcterms:W3CDTF">2009-05-02T12:42:48Z</dcterms:modified>
  <cp:revision>142</cp:revision>
  <dc:subject/>
  <dc:title>Forum Presentation</dc:title>
</cp:coreProperties>
</file>